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587-4817-45CF-B8F4-9AAC89C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5F0-B45D-424E-943C-395BD283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CB6-DB65-4944-B4C9-38B9F694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F1A-0A6A-4A62-992F-A98760A1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EB57-699B-41AE-A2C1-11800847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7B7-2FF4-4ABB-BB36-7EA3517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A1E-7F0B-404F-BE4C-104D980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BF2-2ABF-4F83-888D-A055B7E8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ECB-7C9B-4DC9-9A01-81757B7E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244-86B7-45A9-9891-0038875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7CD9-E4C3-4CB1-BC9C-DA48BAA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C90-F0D2-4FBF-8323-5CB0F67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11F-225C-405D-9F43-2CAD8C1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5314-724A-453E-B828-9943131C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C71-63B0-41FD-84C3-1C8B7D35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5BF6-DD83-4DC4-BE8E-893E2A66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2FB-E7C2-410E-A196-564A69BC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2E7-26AC-468E-9076-F3E11F9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416-28CD-4F4A-B3E5-1367874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F5F-BF21-4238-84AF-7D560A2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279-9E85-4FDC-BAED-0324CC2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9FB-1941-4060-ADE6-CDEA3F0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72A-2E22-48A0-A4BB-FB1DE1E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1AF-A60D-4C1F-BDD2-06FA3291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2250-4CA6-4D24-B3E7-320B5718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6F2-07F5-4820-9971-27F43956F8D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4/Abraham_Lincoln_head_on_shoulders_photo_portrait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SA_FLAG_4.3.1861-21.5.1861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Image:Confederate_National_Flag_since_Mai_1_1863_to_Mar_4_1865.sv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en.wikipedia.org/wiki/Image:Confederate_National_Flag_since_Mar_4_1865.svg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h. 3: Civil War &amp; Reconstru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3.1:  The Civil War Begin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3280" y="44953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What is President Lincoln’s number one reason for wanting to win this war?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Which four southern states did not secede?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927080"/>
            <a:ext cx="7696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996600"/>
              </a:buClr>
              <a:buFont typeface="Times New Roman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Fighting Begins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pril 1861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. Sumter captured by the Sout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807920" cy="153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ftsumter.jpg (48216 bytes)"/>
          <p:cNvPicPr/>
          <p:nvPr/>
        </p:nvPicPr>
        <p:blipFill>
          <a:blip r:embed="rId2"/>
          <a:stretch/>
        </p:blipFill>
        <p:spPr>
          <a:xfrm>
            <a:off x="2362320" y="266688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t. Sumter after Union surrend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639800"/>
            <a:ext cx="80773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F.  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litical changes to support the war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 writ of habeas cor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s can be imprisoned indefinitely without a trial or charges filed against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ame of “National securi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3.1:  The Civil War Beg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:  What advantages and disadvantages did the North and the South have at the start of the Civil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 algn="ctr">
              <a:buClr>
                <a:srgbClr val="99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Presidential election of 1860! (Republican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0" name="" descr="Image:Abraham Lincoln head on shoulders photo portra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752480"/>
            <a:ext cx="36511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.  Lincoln win presidential election of 1860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04164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3429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2.  Lincoln’s feelings towards slavery…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t it was morally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ng to accept it where it already exist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want it to expand in the new territories (w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-228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B.  How does the South respond to election?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76212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su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f-deter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at they states will not have the right to govern themselv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ern states elect their president, Jefferson Davis, and write their own constitution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ederate State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First national flag of the Confederacy (&quot;the Stars and Bars&quot;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886200"/>
            <a:ext cx="1828800" cy="10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Second national flag of the Confederacy (&quot;the Stainless Banner&quot;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809880"/>
            <a:ext cx="2133360" cy="106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Third national flag of the Confederacy (&quot;The Blood Stained Banner&quot;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5181480"/>
            <a:ext cx="1638360" cy="109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962520" y="502920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6553080" y="3352680"/>
            <a:ext cx="2203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.  Strengths…</a:t>
            </a:r>
            <a:br>
              <a:rPr sz="4000"/>
            </a:b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South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                        </a:t>
            </a: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North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Great Generals and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Stonewall Ja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Robert E.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otivated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opulation/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lroa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 system/ Legal Tender Act/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D.  and Strategies/Goals</a:t>
            </a:r>
            <a:br>
              <a:rPr sz="4000"/>
            </a:b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North</a:t>
            </a: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                       </a:t>
            </a:r>
            <a:r>
              <a:rPr b="1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South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siv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aconda p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lit confederacy at the Mississip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capital of Confederacy: Richmond, Virg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of attr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only when conven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capital of Washington, D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01T13:11:09Z</dcterms:modified>
  <cp:revision>25</cp:revision>
  <dc:subject/>
  <dc:title>PowerPoint Presentation</dc:title>
</cp:coreProperties>
</file>